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AC76-4685-4796-8591-98228C7C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FFB5-8EAF-4973-AB50-6D0E531DF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9EF1-CBFA-4439-ABAA-92AE7AF2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5268-E14F-45C0-BCD5-33E7B857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051-AFE5-4CFF-ABA1-BA24F7D6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AB1-22F3-4623-9990-8E3FE697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66A-5869-4BA1-81FE-E325DBD1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AB1-98DA-44BA-9174-E4E23770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51C-1E65-488B-85FC-01F8DB18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1A1-0359-4151-B694-2F317E22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829-26EC-4F28-A48F-C4F8ACA2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F02-325F-4D8D-8ACA-2521A5D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728-65D3-497B-AF96-DB643F9C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C0-D7DA-458F-830A-CFC2E44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76C-C9B3-4CE0-A808-DCD2563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279-1B38-485F-88FC-C38460D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906-9136-4C42-A0BF-F17FD3A5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5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R. Kno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to learn more about technology in the classroom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R. K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Knox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Child Development, U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8900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72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 &amp;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citing news…Having a baby b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s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t married on the beach…dream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8,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teaching job!  Scared, excited, relieved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tended Tusculum College for teaching certifica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. 04-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d from the University of T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d from Fulton High! Go Falcon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58" descr="C:\Users\jrknox\Desktop\IMG_0019.JPG"/>
          <p:cNvPicPr/>
          <p:nvPr/>
        </p:nvPicPr>
        <p:blipFill>
          <a:blip r:embed="rId5"/>
          <a:stretch/>
        </p:blipFill>
        <p:spPr>
          <a:xfrm>
            <a:off x="152280" y="973080"/>
            <a:ext cx="1673280" cy="125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8" descr="C:\Users\jrknox\Desktop\IMG_0019.JPG"/>
          <p:cNvPicPr/>
          <p:nvPr/>
        </p:nvPicPr>
        <p:blipFill>
          <a:blip r:embed="rId6"/>
          <a:stretch/>
        </p:blipFill>
        <p:spPr>
          <a:xfrm>
            <a:off x="2046240" y="5859360"/>
            <a:ext cx="544680" cy="40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C:\Users\jrknox\Desktop\IMG_0019.JPG"/>
          <p:cNvPicPr/>
          <p:nvPr/>
        </p:nvPicPr>
        <p:blipFill>
          <a:blip r:embed="rId7"/>
          <a:stretch/>
        </p:blipFill>
        <p:spPr>
          <a:xfrm>
            <a:off x="2057400" y="520236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C:\Users\jrknox\Desktop\IMG_0019.JPG"/>
          <p:cNvPicPr/>
          <p:nvPr/>
        </p:nvPicPr>
        <p:blipFill>
          <a:blip r:embed="rId8"/>
          <a:stretch/>
        </p:blipFill>
        <p:spPr>
          <a:xfrm>
            <a:off x="2057400" y="454500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1" descr="C:\Users\jrknox\Desktop\IMG_0019.JPG"/>
          <p:cNvPicPr/>
          <p:nvPr/>
        </p:nvPicPr>
        <p:blipFill>
          <a:blip r:embed="rId9"/>
          <a:stretch/>
        </p:blipFill>
        <p:spPr>
          <a:xfrm>
            <a:off x="2057400" y="392112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2" descr="C:\Users\jrknox\Desktop\IMG_0019.JPG"/>
          <p:cNvPicPr/>
          <p:nvPr/>
        </p:nvPicPr>
        <p:blipFill>
          <a:blip r:embed="rId10"/>
          <a:stretch/>
        </p:blipFill>
        <p:spPr>
          <a:xfrm>
            <a:off x="2046240" y="320040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C:\Users\jrknox\Desktop\IMG_0019.JPG"/>
          <p:cNvPicPr/>
          <p:nvPr/>
        </p:nvPicPr>
        <p:blipFill>
          <a:blip r:embed="rId11"/>
          <a:stretch/>
        </p:blipFill>
        <p:spPr>
          <a:xfrm>
            <a:off x="2057400" y="260028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C:\Users\jrknox\Desktop\IMG_0012.JPG"/>
          <p:cNvPicPr/>
          <p:nvPr/>
        </p:nvPicPr>
        <p:blipFill>
          <a:blip r:embed="rId12"/>
          <a:stretch/>
        </p:blipFill>
        <p:spPr>
          <a:xfrm>
            <a:off x="65160" y="5334120"/>
            <a:ext cx="555480" cy="5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C:\Users\jrknox\Desktop\IMG_0186.JPG"/>
          <p:cNvPicPr/>
          <p:nvPr/>
        </p:nvPicPr>
        <p:blipFill>
          <a:blip r:embed="rId13"/>
          <a:stretch/>
        </p:blipFill>
        <p:spPr>
          <a:xfrm>
            <a:off x="723960" y="5340240"/>
            <a:ext cx="380880" cy="50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C:\Users\jrknox\Desktop\IMG_0194.JPG"/>
          <p:cNvPicPr/>
          <p:nvPr/>
        </p:nvPicPr>
        <p:blipFill>
          <a:blip r:embed="rId14"/>
          <a:stretch/>
        </p:blipFill>
        <p:spPr>
          <a:xfrm>
            <a:off x="1249200" y="5340240"/>
            <a:ext cx="44784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C:\Users\jrknox\Desktop\IMG_0320.JPG"/>
          <p:cNvPicPr/>
          <p:nvPr/>
        </p:nvPicPr>
        <p:blipFill>
          <a:blip r:embed="rId15"/>
          <a:stretch/>
        </p:blipFill>
        <p:spPr>
          <a:xfrm>
            <a:off x="73080" y="6159600"/>
            <a:ext cx="5396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C:\Users\jrknox\Desktop\IMG_0307.JPG"/>
          <p:cNvPicPr/>
          <p:nvPr/>
        </p:nvPicPr>
        <p:blipFill>
          <a:blip r:embed="rId16"/>
          <a:stretch/>
        </p:blipFill>
        <p:spPr>
          <a:xfrm>
            <a:off x="708120" y="6159600"/>
            <a:ext cx="43488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C:\Users\jrknox\Desktop\IMG_0270.JPG"/>
          <p:cNvPicPr/>
          <p:nvPr/>
        </p:nvPicPr>
        <p:blipFill>
          <a:blip r:embed="rId17"/>
          <a:stretch/>
        </p:blipFill>
        <p:spPr>
          <a:xfrm>
            <a:off x="1219320" y="6164280"/>
            <a:ext cx="5349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R. Kno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to learn more about technology in the classr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R. K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Knox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Child Development, U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Kno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B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iam, set to arrive December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eaching, boating with the family, and watching reality tele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oing to the movies, spending time with family, and scrapboo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, Pop, and R&amp;B mus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ll of the Twilight movies, Horrible Bosses, My Best Friend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edding, and Talladega N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g Brother, Teen Mom, The Apprentice, American Idol, a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ything else that is a reality TV show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 series, LA Candy, The Cat in the Hat, and First Day Jit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rip to NY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-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291-71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jknox42@students.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58" descr="C:\Users\jrknox\Desktop\IMG_0019.JPG"/>
          <p:cNvPicPr/>
          <p:nvPr/>
        </p:nvPicPr>
        <p:blipFill>
          <a:blip r:embed="rId2"/>
          <a:stretch/>
        </p:blipFill>
        <p:spPr>
          <a:xfrm>
            <a:off x="152280" y="973080"/>
            <a:ext cx="1673280" cy="125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C:\Users\jrknox\Desktop\DSC05930.JPG"/>
          <p:cNvPicPr/>
          <p:nvPr/>
        </p:nvPicPr>
        <p:blipFill>
          <a:blip r:embed="rId3"/>
          <a:stretch/>
        </p:blipFill>
        <p:spPr>
          <a:xfrm>
            <a:off x="104760" y="5330880"/>
            <a:ext cx="781200" cy="58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9" descr="C:\Users\jrknox\Desktop\IMG_0012.JPG"/>
          <p:cNvPicPr/>
          <p:nvPr/>
        </p:nvPicPr>
        <p:blipFill>
          <a:blip r:embed="rId4"/>
          <a:stretch/>
        </p:blipFill>
        <p:spPr>
          <a:xfrm>
            <a:off x="104760" y="5970600"/>
            <a:ext cx="7812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R. K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NYC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3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ssica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0969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hool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1190520" y="56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to learn more about technology in the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58" descr="C:\Users\jrknox\Desktop\IMG_0019.JPG"/>
          <p:cNvPicPr/>
          <p:nvPr/>
        </p:nvPicPr>
        <p:blipFill>
          <a:blip r:embed="rId2"/>
          <a:stretch/>
        </p:blipFill>
        <p:spPr>
          <a:xfrm>
            <a:off x="279360" y="485640"/>
            <a:ext cx="812880" cy="60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C:\Users\jrknox\Desktop\DSC05730.JPG"/>
          <p:cNvPicPr/>
          <p:nvPr/>
        </p:nvPicPr>
        <p:blipFill>
          <a:blip r:embed="rId3"/>
          <a:stretch/>
        </p:blipFill>
        <p:spPr>
          <a:xfrm>
            <a:off x="812880" y="1914480"/>
            <a:ext cx="1244520" cy="93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C:\Users\jrknox\Desktop\DSC05742.JPG"/>
          <p:cNvPicPr/>
          <p:nvPr/>
        </p:nvPicPr>
        <p:blipFill>
          <a:blip r:embed="rId4"/>
          <a:stretch/>
        </p:blipFill>
        <p:spPr>
          <a:xfrm>
            <a:off x="2340000" y="1905120"/>
            <a:ext cx="1251000" cy="93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C:\Users\jrknox\Desktop\DSC05902.JPG"/>
          <p:cNvPicPr/>
          <p:nvPr/>
        </p:nvPicPr>
        <p:blipFill>
          <a:blip r:embed="rId5"/>
          <a:stretch/>
        </p:blipFill>
        <p:spPr>
          <a:xfrm>
            <a:off x="3809880" y="187632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C:\Users\jrknox\Desktop\DSC05740.JPG"/>
          <p:cNvPicPr/>
          <p:nvPr/>
        </p:nvPicPr>
        <p:blipFill>
          <a:blip r:embed="rId6"/>
          <a:stretch/>
        </p:blipFill>
        <p:spPr>
          <a:xfrm>
            <a:off x="762120" y="33195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C:\Users\jrknox\Desktop\DSC05804.JPG"/>
          <p:cNvPicPr/>
          <p:nvPr/>
        </p:nvPicPr>
        <p:blipFill>
          <a:blip r:embed="rId7"/>
          <a:stretch/>
        </p:blipFill>
        <p:spPr>
          <a:xfrm>
            <a:off x="2133720" y="3259080"/>
            <a:ext cx="1466640" cy="1101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C:\Users\jrknox\Desktop\DSC05765.JPG"/>
          <p:cNvPicPr/>
          <p:nvPr/>
        </p:nvPicPr>
        <p:blipFill>
          <a:blip r:embed="rId8"/>
          <a:stretch/>
        </p:blipFill>
        <p:spPr>
          <a:xfrm>
            <a:off x="3657600" y="3243240"/>
            <a:ext cx="1490760" cy="111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0" descr="C:\Users\jrknox\Desktop\IMG_0186.JPG"/>
          <p:cNvPicPr/>
          <p:nvPr/>
        </p:nvPicPr>
        <p:blipFill>
          <a:blip r:embed="rId9"/>
          <a:stretch/>
        </p:blipFill>
        <p:spPr>
          <a:xfrm>
            <a:off x="785880" y="5046840"/>
            <a:ext cx="809640" cy="1077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6" descr="C:\Users\jrknox\Desktop\DSC05958.JPG"/>
          <p:cNvPicPr/>
          <p:nvPr/>
        </p:nvPicPr>
        <p:blipFill>
          <a:blip r:embed="rId10"/>
          <a:stretch/>
        </p:blipFill>
        <p:spPr>
          <a:xfrm>
            <a:off x="2025720" y="5103720"/>
            <a:ext cx="1282680" cy="96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8" descr="C:\Users\jrknox\Desktop\IMG_0019.JPG"/>
          <p:cNvPicPr/>
          <p:nvPr/>
        </p:nvPicPr>
        <p:blipFill>
          <a:blip r:embed="rId11"/>
          <a:stretch/>
        </p:blipFill>
        <p:spPr>
          <a:xfrm>
            <a:off x="3600360" y="5251320"/>
            <a:ext cx="1089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ministrator</cp:lastModifiedBy>
  <dcterms:modified xsi:type="dcterms:W3CDTF">2011-09-01T18:16:18Z</dcterms:modified>
  <cp:revision>39</cp:revision>
  <dc:subject/>
  <dc:title>Profile</dc:title>
</cp:coreProperties>
</file>